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21C-3EE5-4283-A13A-B6D5185C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5B0-D95F-406D-9122-76F8786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1A0-A6B8-4F43-9832-BE1D829F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7BE-4E4C-472C-9FEF-451F50F4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E78-0B9F-4592-A8E1-411C5128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B2A-8D6B-4109-B0D7-F55CBD5A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BAD-8275-42A0-960E-95F1C7D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86C-437F-4169-97DD-F3CFD395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3E1-8EBC-4D8C-B321-1F4B53A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8C8-543C-4D02-9D7A-D8F399E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BCA-7E51-441F-9895-E94F4BF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B91-10D4-4855-AFF5-47A38A1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8117-0F4A-4CA4-B5D7-6C2AD74D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:  the season After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Wo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ll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not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uli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c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ony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2:26:46Z</dcterms:created>
  <dc:creator>Rooseveltlab</dc:creator>
  <dc:description/>
  <dc:language>en-US</dc:language>
  <cp:lastModifiedBy>Roosevelt2</cp:lastModifiedBy>
  <dcterms:modified xsi:type="dcterms:W3CDTF">2008-12-15T21:47:37Z</dcterms:modified>
  <cp:revision>3</cp:revision>
  <dc:subject/>
  <dc:title>autumn</dc:title>
</cp:coreProperties>
</file>